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788-E666-4FE1-9F71-EA4BE843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FD8-A984-4079-96DB-B304C687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8E1-73C2-4F84-8007-6BFB30D0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8F1-6B77-40CC-80E5-09979F97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8DE-C5C6-4E1E-94D4-72AEB3B8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8A8-37A2-4D34-B265-9DDF0E1C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D52-5490-4CAD-B698-F3439D41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F6D-52DD-4B42-8C62-223EB7E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379-FE9C-47D3-ADF0-4A758BE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410-111A-4B69-855B-406F49A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BEF-72E6-4C50-A390-2856B9B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E1B-B627-464B-850F-B38A744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DFEB-2997-4C3D-BBCE-A2A1AD8E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7040" y="1678320"/>
            <a:ext cx="950580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ccff"/>
                </a:solidFill>
                <a:latin typeface="comic"/>
              </a:rPr>
              <a:t>30</a:t>
            </a:r>
            <a:r>
              <a:rPr b="1" lang="bg-BG" sz="4800" spc="-1" strike="noStrike">
                <a:solidFill>
                  <a:srgbClr val="99ffcc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ошел е пак денят на свят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о от начало Бог избра за Свой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Свободни днес от светските дела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принесем ние жертва на хва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4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59920" y="2001600"/>
            <a:ext cx="91720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а Бога този ден да посвети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се научим вярно да вървим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В небесен път Бог да благово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и да приеме нашите молб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2720" y="19440"/>
            <a:ext cx="9291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ебесни Отче, в тоз опасен пъ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бъди Вожд наш през земния живо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е хвалим Твойта Бащин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бъде Тебе слава в век век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9:26Z</dcterms:created>
  <dc:creator>TrifonTrifonow</dc:creator>
  <dc:description/>
  <dc:language>en-US</dc:language>
  <cp:lastModifiedBy>TrifonTrifonow</cp:lastModifiedBy>
  <dcterms:modified xsi:type="dcterms:W3CDTF">2005-11-21T12:29:05Z</dcterms:modified>
  <cp:revision>7</cp:revision>
  <dc:subject/>
  <dc:title>Slide 1</dc:title>
</cp:coreProperties>
</file>